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ZUTNIK.WAV" ContentType="audio/x-wav"/>
  <Override PartName="/ppt/media/image18.wmf" ContentType="image/x-wmf"/>
  <Override PartName="/ppt/media/image15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17.png" ContentType="image/png"/>
  <Override PartName="/ppt/media/MIJANIE.WAV" ContentType="audio/x-wav"/>
  <Override PartName="/ppt/media/STLUCZKA.WAV" ContentType="audio/x-wav"/>
  <Override PartName="/ppt/media/image21.png" ContentType="image/png"/>
  <Override PartName="/ppt/media/image8.png" ContentType="image/png"/>
  <Override PartName="/ppt/media/DZWONKI.WAV" ContentType="audio/x-wav"/>
  <Override PartName="/ppt/media/image6.wmf" ContentType="image/x-wmf"/>
  <Override PartName="/ppt/media/image9.png" ContentType="image/png"/>
  <Override PartName="/ppt/media/image39.png" ContentType="image/png"/>
  <Override PartName="/ppt/media/Nauka%20B%C5%82%C4%85d%20programu.wav" ContentType="audio/x-wav"/>
  <Override PartName="/ppt/media/image19.png" ContentType="image/png"/>
  <Override PartName="/ppt/media/image20.jpeg" ContentType="image/jpeg"/>
  <Override PartName="/ppt/media/image16.png" ContentType="image/png"/>
  <Override PartName="/ppt/media/MASZYNA.WAV" ContentType="audio/x-wav"/>
  <Override PartName="/ppt/media/camera.wav" ContentType="audio/x-wav"/>
  <Override PartName="/ppt/media/image12.wmf" ContentType="image/x-wmf"/>
  <Override PartName="/ppt/media/image25.png" ContentType="image/png"/>
  <Override PartName="/ppt/media/image27.wmf" ContentType="image/x-wmf"/>
  <Override PartName="/ppt/media/SWIST.WAV" ContentType="audio/x-wav"/>
  <Override PartName="/ppt/media/PISKOPON.WAV" ContentType="audio/x-wav"/>
  <Override PartName="/ppt/media/image5.png" ContentType="image/png"/>
  <Override PartName="/ppt/media/image13.wmf" ContentType="image/x-wmf"/>
  <Override PartName="/ppt/media/image30.png" ContentType="image/png"/>
  <Override PartName="/ppt/media/image28.wmf" ContentType="image/x-wmf"/>
  <Override PartName="/ppt/media/image29.png" ContentType="image/png"/>
  <Override PartName="/ppt/media/image31.png" ContentType="image/png"/>
  <Override PartName="/ppt/media/image24.png" ContentType="image/png"/>
  <Override PartName="/ppt/media/image35.wmf" ContentType="image/x-wmf"/>
  <Override PartName="/ppt/media/image36.png" ContentType="image/png"/>
  <Override PartName="/ppt/media/image37.wmf" ContentType="image/x-wmf"/>
  <Override PartName="/ppt/media/image26.wmf" ContentType="image/x-wmf"/>
  <Override PartName="/ppt/media/image38.wmf" ContentType="image/x-wmf"/>
  <Override PartName="/ppt/media/Podr%C3%B3%C5%BC%20Opr%C3%B3%C5%BCnienie%20kosza.wav" ContentType="audio/x-wav"/>
  <Override PartName="/ppt/media/image23.png" ContentType="image/png"/>
  <Override PartName="/ppt/media/image22.png" ContentType="image/png"/>
  <Override PartName="/ppt/media/image33.png" ContentType="image/png"/>
  <Override PartName="/ppt/media/image3.png" ContentType="image/png"/>
  <Override PartName="/ppt/media/image11.wmf" ContentType="image/x-wmf"/>
  <Override PartName="/ppt/media/Podr%C3%B3%C5%BC%20Maksymalizacja.wav" ContentType="audio/x-wav"/>
  <Override PartName="/ppt/media/image7.png" ContentType="image/png"/>
  <Override PartName="/ppt/media/image2.png" ContentType="image/png"/>
  <Override PartName="/ppt/media/image32.png" ContentType="image/png"/>
  <Override PartName="/ppt/media/KASAZARJ.WAV" ContentType="audio/x-wav"/>
  <Override PartName="/ppt/media/image4.png" ContentType="image/png"/>
  <Override PartName="/ppt/media/image3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4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" initials="1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2.xml><?xml version="1.0" encoding="utf-8"?>
<p:cmLst xmlns:p="http://schemas.openxmlformats.org/presentationml/2006/main">
  <p:cm authorId="0" dt="2003-05-23T08:15:44.570000000" idx="1">
    <p:pos x="10" y="10"/>
    <p:text/>
  </p:cm>
  <p:cm authorId="0" dt="2003-05-23T08:15:58.350000000" idx="2">
    <p:pos x="146" y="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1C7-A977-47E8-80D3-7F2067FB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33E-1CB6-4099-AF4A-E3F2EF7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31B-D493-4366-B5BD-73541587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94D-68F7-4721-AD37-4473F08A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F44B-9AFD-4BE9-AEB1-AEDA611C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9873-D655-4603-AA1E-2BB6747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26F0-7A42-4CF3-8EBC-A5215E5C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F0D3-9FEB-45E1-806F-4C3F2D81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504E-B4DE-4E04-889D-FD7C07A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D221-AA1E-4110-A227-3A10DE1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454-07BC-4F40-95FD-EDFE5B1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CF7-C1F6-4E71-A7F7-0684EC2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CF5-923D-44BE-9704-FC36D66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4BCE-9B53-49B1-8671-B2F6F60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50B-989E-441D-B89C-8BECB3FF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921D-E4CC-44FA-972E-B1F8C518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EECA-BAE8-44AC-9578-5E896072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44D-5411-45DA-9F94-C7B2715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3D3-BD62-48B7-A8F3-5C7E68B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FBD-D911-4E02-8E9A-4A029FA7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D25-467B-457A-A55B-40E764D7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169-544B-4816-A0A9-29E63CE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148-F9F1-48F0-A960-8AA62F9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CC2-6507-4560-BF25-A0DD898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7390-3510-48FF-829D-7494DC6F162E}" type="slidenum">
              <a:rPr b="0" lang="pl-PL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854D-40DB-49E5-B6F2-985C8035EA48}" type="slidenum">
              <a:rPr b="0" lang="pl-PL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auka%20B&#322;&#261;d%20programu.wav"/><Relationship Id="rId2" Type="http://schemas.openxmlformats.org/officeDocument/2006/relationships/audio" Target="../media/Podr&#243;&#380;%20Opr&#243;&#380;nienie%20kosza.wav"/><Relationship Id="rId3" Type="http://schemas.openxmlformats.org/officeDocument/2006/relationships/audio" Target="../media/camera.wav"/><Relationship Id="rId4" Type="http://schemas.openxmlformats.org/officeDocument/2006/relationships/audio" Target="../media/PISKOPO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STLUCZKA.WAV"/><Relationship Id="rId8" Type="http://schemas.openxmlformats.org/officeDocument/2006/relationships/audio" Target="../media/STLUCZKA.WAV"/><Relationship Id="rId9" Type="http://schemas.openxmlformats.org/officeDocument/2006/relationships/audio" Target="../media/STLUCZKA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audio" Target="../media/Nauka%20B&#322;&#261;d%20programu.wav"/><Relationship Id="rId12" Type="http://schemas.openxmlformats.org/officeDocument/2006/relationships/audio" Target="../media/MASZYNA.WAV"/><Relationship Id="rId13" Type="http://schemas.openxmlformats.org/officeDocument/2006/relationships/audio" Target="../media/DZWONKI.WAV"/><Relationship Id="rId14" Type="http://schemas.openxmlformats.org/officeDocument/2006/relationships/audio" Target="../media/camera.wav"/><Relationship Id="rId15" Type="http://schemas.openxmlformats.org/officeDocument/2006/relationships/audio" Target="../media/DZWONKI.WAV"/><Relationship Id="rId16" Type="http://schemas.openxmlformats.org/officeDocument/2006/relationships/audio" Target="../media/camera.wav"/><Relationship Id="rId17" Type="http://schemas.openxmlformats.org/officeDocument/2006/relationships/audio" Target="../media/DZWONKI.WAV"/><Relationship Id="rId18" Type="http://schemas.openxmlformats.org/officeDocument/2006/relationships/audio" Target="../media/camera.wav"/><Relationship Id="rId19" Type="http://schemas.openxmlformats.org/officeDocument/2006/relationships/audio" Target="../media/DZWONKI.WAV"/><Relationship Id="rId20" Type="http://schemas.openxmlformats.org/officeDocument/2006/relationships/audio" Target="../media/camera.wav"/><Relationship Id="rId21" Type="http://schemas.openxmlformats.org/officeDocument/2006/relationships/audio" Target="../media/MASZYNA.WAV"/><Relationship Id="rId22" Type="http://schemas.openxmlformats.org/officeDocument/2006/relationships/audio" Target="../media/camera.wav"/><Relationship Id="rId23" Type="http://schemas.openxmlformats.org/officeDocument/2006/relationships/audio" Target="../media/Podr&#243;&#380;%20Maksymalizacja.wav"/><Relationship Id="rId24" Type="http://schemas.openxmlformats.org/officeDocument/2006/relationships/audio" Target="../media/Podr&#243;&#380;%20Maksymalizacja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Nauka%20B&#322;&#261;d%20programu.wav"/><Relationship Id="rId4" Type="http://schemas.openxmlformats.org/officeDocument/2006/relationships/audio" Target="../media/MASZYNA.WAV"/><Relationship Id="rId5" Type="http://schemas.openxmlformats.org/officeDocument/2006/relationships/audio" Target="../media/DZWONKI.WAV"/><Relationship Id="rId6" Type="http://schemas.openxmlformats.org/officeDocument/2006/relationships/audio" Target="../media/camera.wav"/><Relationship Id="rId7" Type="http://schemas.openxmlformats.org/officeDocument/2006/relationships/audio" Target="../media/Podr&#243;&#380;%20Maksymalizacj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audio" Target="../media/Nauka%20B&#322;&#261;d%20programu.wav"/><Relationship Id="rId8" Type="http://schemas.openxmlformats.org/officeDocument/2006/relationships/audio" Target="../media/MASZYNA.WAV"/><Relationship Id="rId9" Type="http://schemas.openxmlformats.org/officeDocument/2006/relationships/audio" Target="../media/MIJANIE.WAV"/><Relationship Id="rId10" Type="http://schemas.openxmlformats.org/officeDocument/2006/relationships/audio" Target="../media/PISKOPON.WAV"/><Relationship Id="rId11" Type="http://schemas.openxmlformats.org/officeDocument/2006/relationships/audio" Target="../media/camera.wav"/><Relationship Id="rId12" Type="http://schemas.openxmlformats.org/officeDocument/2006/relationships/audio" Target="../media/PISKOPON.WAV"/><Relationship Id="rId13" Type="http://schemas.openxmlformats.org/officeDocument/2006/relationships/audio" Target="../media/Podr&#243;&#380;%20Maksymalizacja.wav"/><Relationship Id="rId14" Type="http://schemas.openxmlformats.org/officeDocument/2006/relationships/audio" Target="../media/Podr&#243;&#380;%20Maksymalizacj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Podr&#243;&#380;%20Opr&#243;&#380;nienie%20kosza.wav"/><Relationship Id="rId7" Type="http://schemas.openxmlformats.org/officeDocument/2006/relationships/audio" Target="../media/STLUCZKA.WAV"/><Relationship Id="rId8" Type="http://schemas.openxmlformats.org/officeDocument/2006/relationships/audio" Target="../media/DZWONKI.WAV"/><Relationship Id="rId9" Type="http://schemas.openxmlformats.org/officeDocument/2006/relationships/audio" Target="../media/RZUTNIK.WAV"/><Relationship Id="rId10" Type="http://schemas.openxmlformats.org/officeDocument/2006/relationships/audio" Target="../media/RZUTNIK.WAV"/><Relationship Id="rId11" Type="http://schemas.openxmlformats.org/officeDocument/2006/relationships/audio" Target="../media/RZUTNIK.WAV"/><Relationship Id="rId12" Type="http://schemas.openxmlformats.org/officeDocument/2006/relationships/audio" Target="../media/camera.wav"/><Relationship Id="rId13" Type="http://schemas.openxmlformats.org/officeDocument/2006/relationships/audio" Target="../media/Podr&#243;&#380;%20Maksymalizacja.wav"/><Relationship Id="rId14" Type="http://schemas.openxmlformats.org/officeDocument/2006/relationships/audio" Target="../media/Podr&#243;&#380;%20Maksymalizacj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png"/><Relationship Id="rId12" Type="http://schemas.openxmlformats.org/officeDocument/2006/relationships/audio" Target="../media/Nauka%20B&#322;&#261;d%20programu.wav"/><Relationship Id="rId13" Type="http://schemas.openxmlformats.org/officeDocument/2006/relationships/audio" Target="../media/KASAZARJ.WAV"/><Relationship Id="rId14" Type="http://schemas.openxmlformats.org/officeDocument/2006/relationships/audio" Target="../media/DZWONKI.WAV"/><Relationship Id="rId15" Type="http://schemas.openxmlformats.org/officeDocument/2006/relationships/audio" Target="../media/MIJANIE.WAV"/><Relationship Id="rId16" Type="http://schemas.openxmlformats.org/officeDocument/2006/relationships/audio" Target="../media/PISKOPON.WAV"/><Relationship Id="rId17" Type="http://schemas.openxmlformats.org/officeDocument/2006/relationships/audio" Target="../media/PISKOPON.WAV"/><Relationship Id="rId18" Type="http://schemas.openxmlformats.org/officeDocument/2006/relationships/audio" Target="../media/PISKOPON.WAV"/><Relationship Id="rId19" Type="http://schemas.openxmlformats.org/officeDocument/2006/relationships/audio" Target="../media/PISKOPON.WAV"/><Relationship Id="rId20" Type="http://schemas.openxmlformats.org/officeDocument/2006/relationships/audio" Target="../media/PISKOPON.WAV"/><Relationship Id="rId21" Type="http://schemas.openxmlformats.org/officeDocument/2006/relationships/audio" Target="../media/Podr&#243;&#380;%20Opr&#243;&#380;nienie%20kosza.wav"/><Relationship Id="rId22" Type="http://schemas.openxmlformats.org/officeDocument/2006/relationships/audio" Target="../media/camera.wav"/><Relationship Id="rId23" Type="http://schemas.openxmlformats.org/officeDocument/2006/relationships/audio" Target="../media/Podr&#243;&#380;%20Maksymalizacja.wav"/><Relationship Id="rId24" Type="http://schemas.openxmlformats.org/officeDocument/2006/relationships/audio" Target="../media/Podr&#243;&#380;%20Maksymalizacja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png"/><Relationship Id="rId8" Type="http://schemas.openxmlformats.org/officeDocument/2006/relationships/audio" Target="../media/Nauka%20B&#322;&#261;d%20programu.wav"/><Relationship Id="rId9" Type="http://schemas.openxmlformats.org/officeDocument/2006/relationships/audio" Target="../media/Podr&#243;&#380;%20Opr&#243;&#380;nienie%20kosza.wav"/><Relationship Id="rId10" Type="http://schemas.openxmlformats.org/officeDocument/2006/relationships/audio" Target="../media/DZWONKI.WAV"/><Relationship Id="rId11" Type="http://schemas.openxmlformats.org/officeDocument/2006/relationships/audio" Target="../media/Podr&#243;&#380;%20Opr&#243;&#380;nienie%20kosza.wav"/><Relationship Id="rId12" Type="http://schemas.openxmlformats.org/officeDocument/2006/relationships/audio" Target="../media/SWIST.WAV"/><Relationship Id="rId13" Type="http://schemas.openxmlformats.org/officeDocument/2006/relationships/audio" Target="../media/PISKOPON.WAV"/><Relationship Id="rId14" Type="http://schemas.openxmlformats.org/officeDocument/2006/relationships/audio" Target="../media/SWIST.WAV"/><Relationship Id="rId15" Type="http://schemas.openxmlformats.org/officeDocument/2006/relationships/audio" Target="../media/PISKOPON.WAV"/><Relationship Id="rId16" Type="http://schemas.openxmlformats.org/officeDocument/2006/relationships/audio" Target="../media/SWIST.WAV"/><Relationship Id="rId17" Type="http://schemas.openxmlformats.org/officeDocument/2006/relationships/audio" Target="../media/PISKOPON.WAV"/><Relationship Id="rId18" Type="http://schemas.openxmlformats.org/officeDocument/2006/relationships/audio" Target="../media/SWIST.WAV"/><Relationship Id="rId19" Type="http://schemas.openxmlformats.org/officeDocument/2006/relationships/audio" Target="../media/PISKOPON.WAV"/><Relationship Id="rId20" Type="http://schemas.openxmlformats.org/officeDocument/2006/relationships/audio" Target="../media/camera.wav"/><Relationship Id="rId21" Type="http://schemas.openxmlformats.org/officeDocument/2006/relationships/audio" Target="../media/Podr&#243;&#380;%20Maksymalizacja.wav"/><Relationship Id="rId22" Type="http://schemas.openxmlformats.org/officeDocument/2006/relationships/audio" Target="../media/Podr&#243;&#380;%20Maksymalizacj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audio" Target="../media/Nauka%20B&#322;&#261;d%20programu.wav"/><Relationship Id="rId10" Type="http://schemas.openxmlformats.org/officeDocument/2006/relationships/audio" Target="../media/Podr&#243;&#380;%20Opr&#243;&#380;nienie%20kosza.wav"/><Relationship Id="rId11" Type="http://schemas.openxmlformats.org/officeDocument/2006/relationships/audio" Target="../media/Podr&#243;&#380;%20Opr&#243;&#380;nienie%20kosza.wav"/><Relationship Id="rId12" Type="http://schemas.openxmlformats.org/officeDocument/2006/relationships/audio" Target="../media/DZWONKI.WAV"/><Relationship Id="rId13" Type="http://schemas.openxmlformats.org/officeDocument/2006/relationships/audio" Target="../media/RZUTNIK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png"/><Relationship Id="rId9" Type="http://schemas.openxmlformats.org/officeDocument/2006/relationships/audio" Target="../media/Nauka%20B&#322;&#261;d%20programu.wav"/><Relationship Id="rId10" Type="http://schemas.openxmlformats.org/officeDocument/2006/relationships/audio" Target="../media/MIJANIE.WAV"/><Relationship Id="rId11" Type="http://schemas.openxmlformats.org/officeDocument/2006/relationships/audio" Target="../media/DZWONKI.WAV"/><Relationship Id="rId12" Type="http://schemas.openxmlformats.org/officeDocument/2006/relationships/audio" Target="../media/DZWONKI.WAV"/><Relationship Id="rId13" Type="http://schemas.openxmlformats.org/officeDocument/2006/relationships/audio" Target="../media/DZWONKI.WAV"/><Relationship Id="rId14" Type="http://schemas.openxmlformats.org/officeDocument/2006/relationships/audio" Target="../media/DZWONKI.WAV"/><Relationship Id="rId15" Type="http://schemas.openxmlformats.org/officeDocument/2006/relationships/audio" Target="../media/DZWONKI.WAV"/><Relationship Id="rId16" Type="http://schemas.openxmlformats.org/officeDocument/2006/relationships/audio" Target="../media/DZWONKI.WAV"/><Relationship Id="rId17" Type="http://schemas.openxmlformats.org/officeDocument/2006/relationships/audio" Target="../media/camera.wav"/><Relationship Id="rId18" Type="http://schemas.openxmlformats.org/officeDocument/2006/relationships/audio" Target="../media/Podr&#243;&#380;%20Maksymalizacja.wav"/><Relationship Id="rId19" Type="http://schemas.openxmlformats.org/officeDocument/2006/relationships/audio" Target="../media/Podr&#243;&#380;%20Maksymalizacja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4.png"/><Relationship Id="rId7" Type="http://schemas.openxmlformats.org/officeDocument/2006/relationships/image" Target="../media/image5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png"/><Relationship Id="rId12" Type="http://schemas.openxmlformats.org/officeDocument/2006/relationships/audio" Target="../media/Nauka%20B&#322;&#261;d%20programu.wav"/><Relationship Id="rId13" Type="http://schemas.openxmlformats.org/officeDocument/2006/relationships/audio" Target="../media/DZWONKI.WAV"/><Relationship Id="rId14" Type="http://schemas.openxmlformats.org/officeDocument/2006/relationships/audio" Target="../media/RZUTNIK.WAV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19.png"/><Relationship Id="rId4" Type="http://schemas.openxmlformats.org/officeDocument/2006/relationships/image" Target="../media/image25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37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38.wmf"/><Relationship Id="rId9" Type="http://schemas.openxmlformats.org/officeDocument/2006/relationships/audio" Target="../media/Nauka%20B&#322;&#261;d%20programu.wav"/><Relationship Id="rId10" Type="http://schemas.openxmlformats.org/officeDocument/2006/relationships/audio" Target="../media/DZWONKI.WAV"/><Relationship Id="rId11" Type="http://schemas.openxmlformats.org/officeDocument/2006/relationships/audio" Target="../media/camera.wav"/><Relationship Id="rId12" Type="http://schemas.openxmlformats.org/officeDocument/2006/relationships/audio" Target="../media/RZUTNIK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STLUCZKA.WAV"/><Relationship Id="rId7" Type="http://schemas.openxmlformats.org/officeDocument/2006/relationships/audio" Target="../media/Podr&#243;&#380;%20Opr&#243;&#380;nienie%20kosza.wav"/><Relationship Id="rId8" Type="http://schemas.openxmlformats.org/officeDocument/2006/relationships/audio" Target="../media/RZUTNIK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RZUTNIK.WAV"/><Relationship Id="rId13" Type="http://schemas.openxmlformats.org/officeDocument/2006/relationships/slideLayout" Target="../slideLayouts/slideLayout1.xml"/><Relationship Id="rId14" Type="http://schemas.openxmlformats.org/officeDocument/2006/relationships/comments" Target="../comments/commen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Nauka%20B&#322;&#261;d%20programu.wav"/><Relationship Id="rId4" Type="http://schemas.openxmlformats.org/officeDocument/2006/relationships/audio" Target="../media/Podr&#243;&#380;%20Opr&#243;&#380;nienie%20kosza.wav"/><Relationship Id="rId5" Type="http://schemas.openxmlformats.org/officeDocument/2006/relationships/audio" Target="../media/DZWONKI.WAV"/><Relationship Id="rId6" Type="http://schemas.openxmlformats.org/officeDocument/2006/relationships/audio" Target="../media/DZWONKI.WAV"/><Relationship Id="rId7" Type="http://schemas.openxmlformats.org/officeDocument/2006/relationships/audio" Target="../media/DZWONKI.WAV"/><Relationship Id="rId8" Type="http://schemas.openxmlformats.org/officeDocument/2006/relationships/audio" Target="../media/DZWONKI.WAV"/><Relationship Id="rId9" Type="http://schemas.openxmlformats.org/officeDocument/2006/relationships/audio" Target="../media/camera.wav"/><Relationship Id="rId10" Type="http://schemas.openxmlformats.org/officeDocument/2006/relationships/audio" Target="../media/Podr&#243;&#380;%20Maksymalizacj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camera.wav"/><Relationship Id="rId7" Type="http://schemas.openxmlformats.org/officeDocument/2006/relationships/audio" Target="../media/DZWONKI.WAV"/><Relationship Id="rId8" Type="http://schemas.openxmlformats.org/officeDocument/2006/relationships/audio" Target="../media/camer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Podr&#243;&#380;%20Maksymalizacj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PISKOPON.WAV"/><Relationship Id="rId8" Type="http://schemas.openxmlformats.org/officeDocument/2006/relationships/audio" Target="../media/PISKOPON.WAV"/><Relationship Id="rId9" Type="http://schemas.openxmlformats.org/officeDocument/2006/relationships/audio" Target="../media/PISKOPON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PISKOPON.WAV"/><Relationship Id="rId8" Type="http://schemas.openxmlformats.org/officeDocument/2006/relationships/audio" Target="../media/PISKOPON.WAV"/><Relationship Id="rId9" Type="http://schemas.openxmlformats.org/officeDocument/2006/relationships/audio" Target="../media/PISKOPON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STLUCZKA.WAV"/><Relationship Id="rId8" Type="http://schemas.openxmlformats.org/officeDocument/2006/relationships/audio" Target="../media/STLUCZKA.WAV"/><Relationship Id="rId9" Type="http://schemas.openxmlformats.org/officeDocument/2006/relationships/audio" Target="../media/STLUCZKA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66680" y="380880"/>
            <a:ext cx="70106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NAKI w RUCHU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ROGOWYM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utor: Grażyna Sołtys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5943600"/>
            <a:ext cx="198144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Nauka%20B%C5%82%C4%85d%20program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875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8280" y="95400"/>
            <a:ext cx="5562720" cy="6305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 rot="5400000">
            <a:off x="-1295640" y="281916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INFORMACYJ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I INFORM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oga jednokierunkow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kwadratu lub prostokąt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a wyjątkam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tło niebieskie lub niebiesko-białe, symbole czarn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łe i czerw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72200" y="2286000"/>
          <a:ext cx="257652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286000"/>
                    <a:ext cx="257652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25"/>
                            </p:stCondLst>
                            <p:childTnLst>
                              <p:par>
                                <p:cTn id="42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25"/>
                            </p:stCondLst>
                            <p:childTnLst>
                              <p:par>
                                <p:cTn id="43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25"/>
                            </p:stCondLst>
                            <p:childTnLst>
                              <p:par>
                                <p:cTn id="4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525"/>
                            </p:stCondLst>
                            <p:childTnLst>
                              <p:par>
                                <p:cTn id="4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25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525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25"/>
                            </p:stCondLst>
                            <p:childTnLst>
                              <p:par>
                                <p:cTn id="45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5438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ZNAKI - WYJĄTKI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43200" y="5105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ą kształty wyróżniające się, aby każdy uczestnik ruchu mógł rozpoznać je nawe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lk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 kształci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gdy są trudne warunki lub słaba widocznoś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086600" y="1922400"/>
          <a:ext cx="1528920" cy="15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22400"/>
                    <a:ext cx="15289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57200" y="1911240"/>
          <a:ext cx="1601640" cy="1517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1240"/>
                    <a:ext cx="160164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800600" y="1917720"/>
          <a:ext cx="1687680" cy="1511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917720"/>
                    <a:ext cx="16876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666880" y="1917720"/>
          <a:ext cx="1457280" cy="1514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1917720"/>
                    <a:ext cx="14572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809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roga z pierwszeństwem przejaz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41148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8862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oniec pierwszeństwa przejaz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339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tąp pierwszeństwa przejaz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1" name="Nauka%20B%C5%82%C4%85d%20programu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75"/>
                            </p:stCondLst>
                            <p:childTnLst>
                              <p:par>
                                <p:cTn id="47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975"/>
                            </p:stCondLst>
                            <p:childTnLst>
                              <p:par>
                                <p:cTn id="47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9475"/>
                            </p:stCondLst>
                            <p:childTnLst>
                              <p:par>
                                <p:cTn id="4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475"/>
                            </p:stCondLst>
                            <p:childTnLst>
                              <p:par>
                                <p:cTn id="48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6975"/>
                            </p:stCondLst>
                            <p:childTnLst>
                              <p:par>
                                <p:cTn id="4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2975"/>
                            </p:stCondLst>
                            <p:childTnLst>
                              <p:par>
                                <p:cTn id="4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4475"/>
                            </p:stCondLst>
                            <p:childTnLst>
                              <p:par>
                                <p:cTn id="50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475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1975"/>
                            </p:stCondLst>
                            <p:childTnLst>
                              <p:par>
                                <p:cTn id="5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3475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3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975"/>
                            </p:stCondLst>
                            <p:childTnLst>
                              <p:par>
                                <p:cTn id="52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2475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3975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475"/>
                            </p:stCondLst>
                            <p:childTnLst>
                              <p:par>
                                <p:cTn id="53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2362320"/>
            <a:ext cx="67816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ki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ziom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ą malowane n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zd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postaci pasów, strzałek, napisów, symbol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oją obecnością usprawniają ruch na drodze oraz powtarzają  informacje zawarte na znakach pion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5720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ZNAKI POZIO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Nauka%20B%C5%82%C4%85d%20programu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9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400"/>
                            </p:stCondLst>
                            <p:childTnLst>
                              <p:par>
                                <p:cTn id="55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9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4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900"/>
                            </p:stCondLst>
                            <p:childTnLst>
                              <p:par>
                                <p:cTn id="56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95480" y="409680"/>
            <a:ext cx="4953240" cy="553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5400000">
            <a:off x="-838080" y="2895480"/>
            <a:ext cx="57913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OZIO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OZIOM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LOWANE NA JEZ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181480" y="4495680"/>
          <a:ext cx="32767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495680"/>
                    <a:ext cx="32767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181480" y="2362320"/>
          <a:ext cx="33321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362320"/>
                    <a:ext cx="3332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600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zejś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la piesz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6520" y="4952880"/>
            <a:ext cx="31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ia bezwzględnego za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7" name="Nauka%20B%C5%82%C4%85d%20programu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25"/>
                            </p:stCondLst>
                            <p:childTnLst>
                              <p:par>
                                <p:cTn id="61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IJAN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3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3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425"/>
                            </p:stCondLst>
                            <p:childTnLst>
                              <p:par>
                                <p:cTn id="61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925"/>
                            </p:stCondLst>
                            <p:childTnLst>
                              <p:par>
                                <p:cTn id="6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425"/>
                            </p:stCondLst>
                            <p:childTnLst>
                              <p:par>
                                <p:cTn id="62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7925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9425"/>
                            </p:stCondLst>
                            <p:childTnLst>
                              <p:par>
                                <p:cTn id="6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925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2425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925"/>
                            </p:stCondLst>
                            <p:childTnLst>
                              <p:par>
                                <p:cTn id="6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600200" y="8380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YGNAŁY ŚWIETL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23840" cy="182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0" t="8651" r="0" b="58191"/>
          <a:stretch/>
        </p:blipFill>
        <p:spPr>
          <a:xfrm>
            <a:off x="762120" y="2362320"/>
            <a:ext cx="769608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95480" y="5181480"/>
            <a:ext cx="990720" cy="986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ó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5181480"/>
            <a:ext cx="988920" cy="986040"/>
          </a:xfrm>
          <a:prstGeom prst="ellipse">
            <a:avLst/>
          </a:prstGeom>
          <a:solidFill>
            <a:srgbClr val="fbe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wa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181480"/>
            <a:ext cx="988920" cy="986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d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7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Arial Narrow"/>
              </a:rPr>
              <a:t>SYGNAŁY ŚWIETLNE</a:t>
            </a:r>
            <a:endParaRPr b="1" lang="en-US" sz="7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19160" y="1828800"/>
            <a:ext cx="3429000" cy="45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YGNALIZ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114800" y="3886200"/>
          <a:ext cx="961920" cy="104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886200"/>
                    <a:ext cx="961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114800" y="5029200"/>
          <a:ext cx="952560" cy="10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5029200"/>
                    <a:ext cx="952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114800" y="2743200"/>
          <a:ext cx="95256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743200"/>
                    <a:ext cx="9525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7240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9400" y="39625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W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760" y="510552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Ź; J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4876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TRZYMAJ SIĘ, JEŚLI DROGA WOLNA - JEDŹ OSTROŻ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181480" y="5029200"/>
          <a:ext cx="952560" cy="102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5029200"/>
                    <a:ext cx="952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067640" y="5257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klikn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9200" y="4114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klikn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5160" y="2971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klikn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2" name="Nauka%20B%C5%82%C4%85d%20programu.wav"/>
      </p:stSnd>
    </p:sndAc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KASAZARJ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0"/>
                            </p:stCondLst>
                            <p:childTnLst>
                              <p:par>
                                <p:cTn id="7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IJAN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500"/>
                            </p:stCondLst>
                            <p:childTnLst>
                              <p:par>
                                <p:cTn id="72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9500"/>
                            </p:stCondLst>
                            <p:childTnLst>
                              <p:par>
                                <p:cTn id="7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09480" y="457200"/>
            <a:ext cx="8077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 Narrow"/>
              </a:rPr>
              <a:t>HIERARCHIA ZNAKÓW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Każdy uczestnik ruchu jest obowiązany stosować się do znaków, norm, sygnałów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i poleceń w następującej kolejności: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19520"/>
            <a:ext cx="30477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polecenia i sygnały 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dawane przez osoby 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kierujące ruch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sygnały świetl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znaki drogow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normy zawarte 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w przepis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924680" y="3429000"/>
            <a:ext cx="555840" cy="990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V="1">
            <a:off x="5943600" y="4266720"/>
            <a:ext cx="1752480" cy="38124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03320" y="5331960"/>
            <a:ext cx="1065240" cy="150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rcRect l="22014" t="7181" r="56097" b="3023"/>
          <a:stretch/>
        </p:blipFill>
        <p:spPr>
          <a:xfrm>
            <a:off x="380880" y="2362320"/>
            <a:ext cx="917640" cy="1752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V="1">
            <a:off x="5638680" y="5562720"/>
            <a:ext cx="1447920" cy="30456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315200" y="5105520"/>
          <a:ext cx="765000" cy="79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5105520"/>
                    <a:ext cx="765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295280" y="4572000"/>
            <a:ext cx="639720" cy="1066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V="1">
            <a:off x="1371600" y="3200040"/>
            <a:ext cx="1752480" cy="2286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8" name="Nauka%20B%C5%82%C4%85d%20programu.wav"/>
      </p:stSnd>
    </p:sndAc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900"/>
                            </p:stCondLst>
                            <p:childTnLst>
                              <p:par>
                                <p:cTn id="81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2400"/>
                            </p:stCondLst>
                            <p:childTnLst>
                              <p:par>
                                <p:cTn id="81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39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400"/>
                            </p:stCondLst>
                            <p:childTnLst>
                              <p:par>
                                <p:cTn id="8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6900"/>
                            </p:stCondLst>
                            <p:childTnLst>
                              <p:par>
                                <p:cTn id="83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8400"/>
                            </p:stCondLst>
                            <p:childTnLst>
                              <p:par>
                                <p:cTn id="84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9900"/>
                            </p:stCondLst>
                            <p:childTnLst>
                              <p:par>
                                <p:cTn id="84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1400"/>
                            </p:stCondLst>
                            <p:childTnLst>
                              <p:par>
                                <p:cTn id="85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29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44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9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7400"/>
                            </p:stCondLst>
                            <p:childTnLst>
                              <p:par>
                                <p:cTn id="87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 rot="21466200">
            <a:off x="228600" y="2844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INI TEST-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 rot="21466200">
            <a:off x="5333760" y="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ocenia nauczyciel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85800" y="1219320"/>
            <a:ext cx="7772400" cy="4803120"/>
            <a:chOff x="685800" y="1219320"/>
            <a:chExt cx="7772400" cy="4803120"/>
          </a:xfrm>
        </p:grpSpPr>
        <p:sp>
          <p:nvSpPr>
            <p:cNvPr id="275" name=""/>
            <p:cNvSpPr/>
            <p:nvPr/>
          </p:nvSpPr>
          <p:spPr>
            <a:xfrm>
              <a:off x="838080" y="12193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Który znak jest znakiem ostrzegawczy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86000" y="32004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B) 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0" y="55627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B)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" y="38098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Który znak jest znakiem poziomy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2286000" y="2057400"/>
              <a:ext cx="2360520" cy="887400"/>
              <a:chOff x="2286000" y="2057400"/>
              <a:chExt cx="2360520" cy="8874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1"/>
              <a:srcRect l="52475" t="22518" r="37016" b="69630"/>
              <a:stretch/>
            </p:blipFill>
            <p:spPr>
              <a:xfrm>
                <a:off x="3825720" y="2057400"/>
                <a:ext cx="8208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2"/>
              <a:srcRect l="0" t="42533" r="86246" b="46323"/>
              <a:stretch/>
            </p:blipFill>
            <p:spPr>
              <a:xfrm>
                <a:off x="2286000" y="2058840"/>
                <a:ext cx="79848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82" name=""/>
            <p:cNvGraphicFramePr/>
            <p:nvPr/>
          </p:nvGraphicFramePr>
          <p:xfrm>
            <a:off x="5334120" y="4572000"/>
            <a:ext cx="676080" cy="843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4572000"/>
                      <a:ext cx="67608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"/>
            <p:cNvGraphicFramePr/>
            <p:nvPr/>
          </p:nvGraphicFramePr>
          <p:xfrm>
            <a:off x="3902040" y="4572000"/>
            <a:ext cx="66996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02040" y="4572000"/>
                      <a:ext cx="6699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6" name="" descr=""/>
            <p:cNvPicPr/>
            <p:nvPr/>
          </p:nvPicPr>
          <p:blipFill>
            <a:blip r:embed="rId7"/>
            <a:stretch/>
          </p:blipFill>
          <p:spPr>
            <a:xfrm>
              <a:off x="2209680" y="4572000"/>
              <a:ext cx="9144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8"/>
            <a:stretch/>
          </p:blipFill>
          <p:spPr>
            <a:xfrm>
              <a:off x="5410080" y="2133720"/>
              <a:ext cx="914400" cy="82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  <p:sndAc>
      <p:stSnd>
        <p:snd r:embed="rId9" name="Nauka%20B%C5%82%C4%85d%20programu.wav"/>
      </p:stSnd>
    </p:sndAc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500"/>
                            </p:stCondLst>
                            <p:childTnLst>
                              <p:par>
                                <p:cTn id="8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14400" y="609480"/>
            <a:ext cx="7772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993300"/>
                  </a:outerShdw>
                </a:effectLst>
                <a:latin typeface="Arial Black"/>
              </a:rPr>
              <a:t>ZNAKI DROGOW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07932" dir="18900000" blurRad="0" rotWithShape="0">
                  <a:srgbClr val="9933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476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ION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438280"/>
            <a:ext cx="64767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OZ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6476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YGNAŁY ŚWIET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657600"/>
            <a:ext cx="64767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ZNAKI - WYJĄT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876920"/>
            <a:ext cx="64767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INI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476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HIERARCHIA ZNA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 rot="16557000">
            <a:off x="822204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  <p:sndAc>
      <p:stSnd>
        <p:snd r:embed="rId9" name="Nauka%20B%C5%82%C4%85d%20programu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IJAN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33520" y="228600"/>
            <a:ext cx="8381880" cy="6046560"/>
            <a:chOff x="533520" y="228600"/>
            <a:chExt cx="8381880" cy="60465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5486400" y="5016240"/>
              <a:ext cx="66024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2438280" y="881280"/>
              <a:ext cx="76212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"/>
            <a:srcRect l="84012" t="0" r="1823" b="89130"/>
            <a:stretch/>
          </p:blipFill>
          <p:spPr>
            <a:xfrm>
              <a:off x="5486400" y="881280"/>
              <a:ext cx="7621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rcRect l="66148" t="0" r="18109" b="88962"/>
            <a:stretch/>
          </p:blipFill>
          <p:spPr>
            <a:xfrm>
              <a:off x="2362320" y="2840040"/>
              <a:ext cx="8380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5"/>
            <a:srcRect l="66684" t="13104" r="15996" b="75881"/>
            <a:stretch/>
          </p:blipFill>
          <p:spPr>
            <a:xfrm>
              <a:off x="2362320" y="5016240"/>
              <a:ext cx="914400" cy="7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62120" y="2286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 Który znak jest znakiem nakaz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38280" y="167904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B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225936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. Który znak jest znakiem wyjątkowy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37087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B)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4143960"/>
              <a:ext cx="76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. Który znak oznacza drogę posiadającą pierwszeństwo przejazd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90920" y="581544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B)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5486400" y="2840040"/>
              <a:ext cx="76212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7"/>
            <a:srcRect l="0" t="42533" r="86246" b="46323"/>
            <a:stretch/>
          </p:blipFill>
          <p:spPr>
            <a:xfrm>
              <a:off x="4038480" y="2767320"/>
              <a:ext cx="863640" cy="912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03" name=""/>
            <p:cNvGraphicFramePr/>
            <p:nvPr/>
          </p:nvGraphicFramePr>
          <p:xfrm>
            <a:off x="4262400" y="735840"/>
            <a:ext cx="309600" cy="96120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62400" y="735840"/>
                      <a:ext cx="309600" cy="9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"/>
            <p:cNvGraphicFramePr/>
            <p:nvPr/>
          </p:nvGraphicFramePr>
          <p:xfrm>
            <a:off x="3962520" y="4943520"/>
            <a:ext cx="942840" cy="853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62520" y="4943520"/>
                      <a:ext cx="942840" cy="85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dissolve/>
    <p:sndAc>
      <p:stSnd>
        <p:snd r:embed="rId12" name="Nauka%20B%C5%82%C4%85d%20programu.wav"/>
      </p:stSnd>
    </p:sndAc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" action="ppaction://hlinkshowjump?jump=lastslide"/>
          </p:cNvPr>
          <p:cNvSpPr/>
          <p:nvPr/>
        </p:nvSpPr>
        <p:spPr>
          <a:xfrm>
            <a:off x="304920" y="6019920"/>
            <a:ext cx="22096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oniec tes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14400" y="228600"/>
            <a:ext cx="7619760" cy="6174720"/>
            <a:chOff x="914400" y="228600"/>
            <a:chExt cx="7619760" cy="6174720"/>
          </a:xfrm>
        </p:grpSpPr>
        <p:sp>
          <p:nvSpPr>
            <p:cNvPr id="309" name=""/>
            <p:cNvSpPr/>
            <p:nvPr/>
          </p:nvSpPr>
          <p:spPr>
            <a:xfrm>
              <a:off x="914400" y="2286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 Który znak zabrania ruch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1"/>
            <a:srcRect l="28016" t="42301" r="57249" b="46571"/>
            <a:stretch/>
          </p:blipFill>
          <p:spPr>
            <a:xfrm>
              <a:off x="4114800" y="990720"/>
              <a:ext cx="90648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2819160" y="1143000"/>
              <a:ext cx="78768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971800" y="20336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B)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3000" y="2667240"/>
              <a:ext cx="716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. Wskaż prawidłową kolejność, według której musisz się podporządkować, gdy spotkasz wszystkie możliwości na skrzyżowani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3"/>
            <a:srcRect l="0" t="10502" r="87443" b="61639"/>
            <a:stretch/>
          </p:blipFill>
          <p:spPr>
            <a:xfrm>
              <a:off x="2514600" y="4267440"/>
              <a:ext cx="76680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"/>
            <a:srcRect l="0" t="8944" r="79643" b="3023"/>
            <a:stretch/>
          </p:blipFill>
          <p:spPr>
            <a:xfrm>
              <a:off x="3962160" y="3962520"/>
              <a:ext cx="10335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90560" y="594360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  B) 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7" name=""/>
            <p:cNvGraphicFramePr/>
            <p:nvPr/>
          </p:nvGraphicFramePr>
          <p:xfrm>
            <a:off x="5638680" y="1143000"/>
            <a:ext cx="733320" cy="7239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1143000"/>
                      <a:ext cx="7333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5790960" y="4648320"/>
            <a:ext cx="723960" cy="7333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0960" y="4648320"/>
                      <a:ext cx="723960" cy="73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9" name="Nauka%20B%C5%82%C4%85d%20programu.wav"/>
      </p:stSnd>
    </p:sndAc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23880" y="1371600"/>
            <a:ext cx="69343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ONIEC 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EZENTACJI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NAKÓW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ROGOWYCH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c0c0c0"/>
          </a:solidFill>
          <a:ln cap="sq"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144000" y="0"/>
          <a:ext cx="163836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0"/>
                    <a:ext cx="163836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>
            <a:hlinkClick r:id="" action="ppaction://hlinkshowjump?jump=previousslide"/>
          </p:cNvPr>
          <p:cNvSpPr/>
          <p:nvPr/>
        </p:nvSpPr>
        <p:spPr>
          <a:xfrm flipH="1">
            <a:off x="2819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lastslide"/>
          </p:cNvPr>
          <p:cNvSpPr/>
          <p:nvPr/>
        </p:nvSpPr>
        <p:spPr>
          <a:xfrm>
            <a:off x="304920" y="1981080"/>
            <a:ext cx="22096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ceń się s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500"/>
                            </p:stCondLst>
                            <p:childTnLst>
                              <p:par>
                                <p:cTn id="9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9000"/>
                            </p:stCondLst>
                            <p:childTnLst>
                              <p:par>
                                <p:cTn id="9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676520"/>
            <a:ext cx="6400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ady ruchu drogowego podawane są często za pomocą znaków drogowy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k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ionow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ieszczane są pionowo  na słupkach, słupach, ścianach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ki te wyrażają ostrzeżenia, zakazy, nakazy i informacje, dlatego też dzielą się n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9320" y="4267080"/>
            <a:ext cx="3352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9ad4b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STRZEGAWCZ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9ad4b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81280" y="4800600"/>
            <a:ext cx="1981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d7b8d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Z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d7b8de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0" y="5257800"/>
            <a:ext cx="1905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62720" y="57913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1a2bb"/>
                    </a:gs>
                    <a:gs pos="100000">
                      <a:srgbClr val="ccff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NFORMACYJ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1a2bb"/>
                  </a:gs>
                  <a:gs pos="100000">
                    <a:srgbClr val="ccff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 rot="16557000">
            <a:off x="822204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722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66"/>
                </a:solidFill>
                <a:latin typeface="Arial Narrow"/>
              </a:rPr>
              <a:t>ZNAKI</a:t>
            </a:r>
            <a:r>
              <a:rPr b="1" i="1" lang="en-US" sz="80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i="1" lang="en-US" sz="8000" spc="-1" strike="noStrike">
                <a:solidFill>
                  <a:srgbClr val="ffff66"/>
                </a:solidFill>
                <a:latin typeface="Arial Narrow"/>
              </a:rPr>
              <a:t>PIONOW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Nauka%20B%C5%82%C4%85d%20programu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28600"/>
            <a:ext cx="558468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5400000">
            <a:off x="-1295640" y="2666880"/>
            <a:ext cx="64008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TRZEGAWCZ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 rot="16557000">
            <a:off x="822204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NAKI OSTRZEGAW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zejście dla piesz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trójkąta równobocznego z czerwoną obwódką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żółte tło i czarne sym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15000" y="2133720"/>
          <a:ext cx="286056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133720"/>
                    <a:ext cx="28605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25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25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25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25"/>
                            </p:stCondLst>
                            <p:childTnLst>
                              <p:par>
                                <p:cTn id="1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25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525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25"/>
                            </p:stCondLst>
                            <p:childTnLst>
                              <p:par>
                                <p:cTn id="21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5405400" cy="617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5400000">
            <a:off x="-1028520" y="2857320"/>
            <a:ext cx="571500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Z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I ZAK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kaz wjazdu rower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koła, zwykle białe tło, czerwoną obwódk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zarne sym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2209680"/>
          <a:ext cx="2760840" cy="27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209680"/>
                    <a:ext cx="27608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25"/>
                            </p:stCondLst>
                            <p:childTnLst>
                              <p:par>
                                <p:cTn id="2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25"/>
                            </p:stCondLst>
                            <p:childTnLst>
                              <p:par>
                                <p:cTn id="26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25"/>
                            </p:stCondLst>
                            <p:childTnLst>
                              <p:par>
                                <p:cTn id="27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25"/>
                            </p:stCondLst>
                            <p:childTnLst>
                              <p:par>
                                <p:cTn id="27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25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525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25"/>
                            </p:stCondLst>
                            <p:childTnLst>
                              <p:par>
                                <p:cTn id="29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6080040" cy="4846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 rot="5400000">
            <a:off x="-1300320" y="2900160"/>
            <a:ext cx="6019920" cy="113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I NAK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kaz jazdy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prawo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b w le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koł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ło niebiesk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iałe sym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19920" y="2133720"/>
          <a:ext cx="277812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133720"/>
                    <a:ext cx="277812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25"/>
                            </p:stCondLst>
                            <p:childTnLst>
                              <p:par>
                                <p:cTn id="34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25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25"/>
                            </p:stCondLst>
                            <p:childTnLst>
                              <p:par>
                                <p:cTn id="35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25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525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25"/>
                            </p:stCondLst>
                            <p:childTnLst>
                              <p:par>
                                <p:cTn id="37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9:48:50Z</dcterms:created>
  <dc:creator>Grazyna Soltysiak</dc:creator>
  <dc:description/>
  <dc:language>en-US</dc:language>
  <cp:lastModifiedBy>1</cp:lastModifiedBy>
  <dcterms:modified xsi:type="dcterms:W3CDTF">2003-05-23T06:26:46Z</dcterms:modified>
  <cp:revision>173</cp:revision>
  <dc:subject/>
  <dc:title>Bez tytułu slajdu</dc:title>
</cp:coreProperties>
</file>